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comments/comment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iris" initials="i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<Relationship Id="rId20" Type="http://schemas.openxmlformats.org/officeDocument/2006/relationships/commentAuthors" Target="commentAuthors.xml"/>
</Relationships>
</file>

<file path=ppt/comments/comment9.xml><?xml version="1.0" encoding="utf-8"?>
<p:cmLst xmlns:p="http://schemas.openxmlformats.org/presentationml/2006/main">
  <p:cm authorId="0" dt="2011-03-03T19:33:09.497000000" idx="1">
    <p:pos x="10" y="1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C8CC-E03C-41D2-9813-76A5218E7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D8B5-93BA-42C6-A84B-4E350AA8A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9FF3-D47A-41C3-87B4-6F382AFAF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00CD-60EC-48DF-A6A2-C52A8E7E3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67C08-D4B3-44AB-9BC1-276C1B834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E39DD-E077-4E1A-815D-1032452DB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93837-9AA2-470F-9E04-26DC095A9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59220-4FF3-4EDE-AD32-70DC6A2E7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A5102-FD49-4DB1-9A31-1FCCE0C21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F134B-CA5D-47BC-8C7A-96E44AAF5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73D88-4FB5-4D53-A23C-FB0611EC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9D2F-BD3B-49C1-A254-08ADBCBB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F132A-A39C-4A27-8FA4-6A9922C9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CBD5E-7925-4284-A93B-E39EE75E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A6F0C-34C9-47C8-9853-F6F1027ED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FF99C-8241-4CCD-A225-6C92DFC52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B5DE8-4928-4214-A0C2-C4183F982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28289-8457-4D40-865A-56E9BE02D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C2BC4-0411-408C-9894-2DCA8660B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6131A-8665-4A3C-82D2-7890F7643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41D13-D581-4300-BA6F-012B36B4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77F5D-28F0-497E-AE8B-4191E735D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57F8-8623-44E4-A821-1A9E7D49C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B3A9A-A7E6-4982-8856-31B70AA82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A03FB-D049-44F9-BA50-637B509E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4D883-A11D-455C-AC06-C68D857F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6FBE0-1D72-4E5B-A7D2-353FECF5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46BC9-117E-40A8-A88E-ACA31D54C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81384-2DEE-4DF1-B233-4C44473D4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1D7B2-9210-435F-8168-8ECB57803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2A2F0-5249-4977-9239-604F5560B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19596-DC44-48A3-9287-27219A036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5CE18-81B8-4865-A2F2-1ED23C805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E207-A84C-4BBC-BF1C-2B2B932BD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D4F3D-DEC7-4293-8449-06F849609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C2625-F7D7-469D-8C4F-FF162C587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FE9F4-D41C-4AAC-861F-8D6CCCC86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2E78D-C84B-404C-8755-3687594C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1BFC5-9054-40E0-83B5-993C3A48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C4A54-C29C-40B6-BF87-F6F7C551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A1179-51A9-4BFF-B684-AF0F862DF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62052-3B38-4BF7-8B6B-1B0B57BA7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9816B-3CA1-414D-8598-1131BB203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86853-F27D-405E-A63F-9FDEF925E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7CED-DBFA-4A2F-A5FD-847E311A4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3A7EB-3C9A-41E9-8A3F-C232ACBBC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07654-088C-4D29-B766-73614F946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1A9AE-F5B9-4A6B-BBD7-0E45D0D67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1DC33-B6B0-41A9-B739-DA91B69BB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F8D15-9F8C-4A1A-A310-18FB82584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69DD8-7ECB-48D2-86BE-78CABFCB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AC387-4CB3-4612-A9C4-415D66BD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462B0-07CA-472C-A27B-4AE1B7A3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30B2B-8467-4F1E-A049-3BC2F2D29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A3476-461F-434E-B22F-3F318A0CB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BC4B-2DDE-4A73-8465-0B5FAF3CD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F3D1C-9FE0-4492-8B7E-D9F004EB9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26DF3-6068-4343-A658-AA81DA20D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6954E-72FF-464E-B6A3-AB465E78A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867BC-12EE-4A85-82F7-A5DF2F9EC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683AC-802E-4392-95F8-E1677DAED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24401A-A1B0-4E0C-BE74-23B0A348E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DB6FE-469B-4F95-B324-9C5B03FFA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0D6DD-06C3-4D02-B225-0DD9296F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80BDC-F8F0-491D-96D2-85140179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69035-BF65-47F9-A92E-5D92B400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E4D7-421E-4FCD-BC0C-499EB1F8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21EA28-0440-4C47-A3CB-A7A3BB75E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52FEF-21AC-4AD2-B9A7-84976765D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D3C52-2B92-4E1A-93B1-17E5B6C5C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7CD31-0A39-441C-984C-D8AC53DC8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21CB5E-033B-4351-84B9-EFB58417E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67BEE-24E6-40EF-B995-98E4399CE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41A88-C6FD-4720-9CD8-BCBC246BB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CC34D-8A0B-414F-86E7-3EB877E3E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275D1-B125-46FA-ABE4-0B3E8FA76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B9F860-42CE-4C5F-8168-32CF5F85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364E-BC88-4AD0-BD29-9A53953E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52E4D-E98B-45DB-B5D5-AC33680E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2D32E4-24E6-437E-A47A-BC53CA60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5E5038-3C4F-426A-82C3-1B5ED4C4A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358413-E5A8-4964-A6B7-9F193BF6F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776A2-1C2B-48ED-884B-4849B5251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541E-5F13-4259-9FED-48FA0AEF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94ECB-B5BF-4BD8-9DA2-43DD66A43A9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0081F-80C7-41DB-A073-1D36579417B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92F1A-341B-4125-A818-FD4CD305C67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C8EE5-658F-4BDF-9DCC-57F84615963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F161C-1B5E-4933-A35D-1468075F7D5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7B800-840E-4EF8-A6AA-6B76DB7D83B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A5D69-0035-4DA1-AA60-997F28587F2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comments" Target="../comments/commen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12"/>
          <p:cNvSpPr/>
          <p:nvPr/>
        </p:nvSpPr>
        <p:spPr>
          <a:xfrm>
            <a:off x="5481720" y="29286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9" name="Picture 13" descr="AltaVista"/>
          <p:cNvPicPr/>
          <p:nvPr/>
        </p:nvPicPr>
        <p:blipFill>
          <a:blip r:embed="rId1"/>
          <a:stretch/>
        </p:blipFill>
        <p:spPr>
          <a:xfrm>
            <a:off x="1371600" y="1143000"/>
            <a:ext cx="6477120" cy="1752480"/>
          </a:xfrm>
          <a:prstGeom prst="rect">
            <a:avLst/>
          </a:prstGeom>
          <a:ln w="0">
            <a:noFill/>
          </a:ln>
        </p:spPr>
      </p:pic>
      <p:sp>
        <p:nvSpPr>
          <p:cNvPr id="320" name="Control 23"/>
          <p:cNvSpPr/>
          <p:nvPr/>
        </p:nvSpPr>
        <p:spPr>
          <a:xfrm>
            <a:off x="3429000" y="990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Rectangle 24"/>
          <p:cNvSpPr/>
          <p:nvPr/>
        </p:nvSpPr>
        <p:spPr>
          <a:xfrm>
            <a:off x="5481720" y="29286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TextBox 10"/>
          <p:cNvSpPr/>
          <p:nvPr/>
        </p:nvSpPr>
        <p:spPr>
          <a:xfrm>
            <a:off x="5410080" y="4648320"/>
            <a:ext cx="106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By Iris Filomen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20e04"/>
              </a:solidFill>
              <a:latin typeface="Gill Sans MT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-914400" y="0"/>
            <a:ext cx="11201400" cy="77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503280" y="1600200"/>
            <a:ext cx="8183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ltaVista, a business of Overture Services, Inc., is a leading provider of search services and technology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ltaVista continues to advance Internet search with new technologies and features designed to improve the search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5" name="Picture 2" descr=""/>
          <p:cNvPicPr/>
          <p:nvPr/>
        </p:nvPicPr>
        <p:blipFill>
          <a:blip r:embed="rId1"/>
          <a:stretch/>
        </p:blipFill>
        <p:spPr>
          <a:xfrm>
            <a:off x="2590920" y="457200"/>
            <a:ext cx="44956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1984320" y="144792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4"/>
          <p:cNvSpPr/>
          <p:nvPr/>
        </p:nvSpPr>
        <p:spPr>
          <a:xfrm>
            <a:off x="1066680" y="685800"/>
            <a:ext cx="7391520" cy="36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ltaVista, which means "a view from above," was inspired by the creation of big ideas from a team of experts with a fascination for keeping track of Informatio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ltaVista inventions include the first-ever multi-lingual search capability on the Internet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ltaVista is proud of Babel Fish, the Web's first Internet machine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600200" y="2362320"/>
            <a:ext cx="59436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572314"/>
                </a:solidFill>
                <a:latin typeface="Gill Sans MT"/>
              </a:rPr>
              <a:t>•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Delivers Internet's first Web index (1995)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• First multilingual search capabilities on the Internet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• First Internet search engine to launch Image, Audio, and Video search.</a:t>
            </a:r>
            <a:br>
              <a:rPr sz="2000"/>
            </a:br>
            <a:br>
              <a:rPr sz="3900"/>
            </a:b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1" name="Picture 2" descr=""/>
          <p:cNvPicPr/>
          <p:nvPr/>
        </p:nvPicPr>
        <p:blipFill>
          <a:blip r:embed="rId1"/>
          <a:stretch/>
        </p:blipFill>
        <p:spPr>
          <a:xfrm>
            <a:off x="2209680" y="838080"/>
            <a:ext cx="44197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"/>
          <p:cNvPicPr/>
          <p:nvPr/>
        </p:nvPicPr>
        <p:blipFill>
          <a:blip r:embed="rId1"/>
          <a:stretch/>
        </p:blipFill>
        <p:spPr>
          <a:xfrm>
            <a:off x="-1219320" y="0"/>
            <a:ext cx="115826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91080" y="2438640"/>
            <a:ext cx="660708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ost advanced Internet search features and capabilities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ultimedia search, translation &amp; language recognition, and specialty search. </a:t>
            </a:r>
            <a:br>
              <a:rPr sz="2000"/>
            </a:br>
            <a:br>
              <a:rPr sz="3900"/>
            </a:b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4" name="Picture 2" descr=""/>
          <p:cNvPicPr/>
          <p:nvPr/>
        </p:nvPicPr>
        <p:blipFill>
          <a:blip r:embed="rId1"/>
          <a:stretch/>
        </p:blipFill>
        <p:spPr>
          <a:xfrm>
            <a:off x="2286000" y="1143000"/>
            <a:ext cx="4343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3T23:09:59Z</dcterms:created>
  <dc:creator>iris</dc:creator>
  <dc:description/>
  <dc:language>en-US</dc:language>
  <cp:lastModifiedBy>ccstudent</cp:lastModifiedBy>
  <dcterms:modified xsi:type="dcterms:W3CDTF">2011-03-05T17:22:23Z</dcterms:modified>
  <cp:revision>18</cp:revision>
  <dc:subject/>
  <dc:title>PowerPoint Presentation</dc:title>
</cp:coreProperties>
</file>